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1D28-95DA-4B9A-B594-04BB82D7E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DD18-B684-4FB8-8284-6E66300B1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1137-DC37-46D3-9243-7B71E8809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3420-97BB-4E06-BD87-52FE5EF52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A6E7-AC77-4922-843E-5440854BB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51F6-A689-4635-8D40-BCE6B08B4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4707-685B-47ED-B1AE-90671AF6E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8926-F513-4F7D-A354-E9CBF7877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75C4-A61A-4F7F-9EE5-7F01062FD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28B3-520D-417C-A7CB-49F5C25D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441B-F192-48D7-B97E-31EC6FDB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483A-3E4B-4F1E-9BD3-EB8FA38F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40365-FA9F-44DB-9885-5C28F0380F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e Case Descri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eek 1 – Lab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e Case Descri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x months from now, the Grand Cineplex Odeon II is opening in downtown Calgary. It will sport a multilevel parking garage free for movie-goers, enhanced online ticket purchasing, more combos of soda and popcorn, and make a larger dent in your monthly bank statement. They have started the planning for their system infrastructure and part of this involves developing a use case diagram for their system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Acto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ustomers (Movie-goers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icket Salesperson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anag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use cases do we hav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Custome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urchase tickets (online)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rint ticket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heck status of movie (sold out, x% full, etc..)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heck available seating (which seats, or if it's a "free-for-all")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eserve seating (if possible)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Get parking entrance receipt (by authenticating their ticket, they can enter the parking garage 15 minutes before, and park till 15 minutes after their movie)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ay for parking (if they went in earlier or stayed too late)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se Case Descrip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45684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The name of the user c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scription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A brief description of the use cas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imary Actors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Actors participating in the use cas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condary Actors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Actors that may participat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econditio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601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What needs to exist for this use case to sta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in Flow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601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Steps done in this use c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ostconditions:</a:t>
            </a:r>
            <a:br>
              <a:rPr sz="2400"/>
            </a:b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What should happen by the end of this use case to verify that it is done in a correct w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lternative Flows:</a:t>
            </a:r>
            <a:br>
              <a:rPr sz="2400"/>
            </a:b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A possible alternative flow for the use case (e.g. an error happe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se Case Descrip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45684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ame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urchase Ticket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scription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urchase tickets for a movi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imary Actors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ustomer, Sale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econdary Actors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anage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econdition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vie not sold ou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vie play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in Flow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ustomer logs into online syste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ustomer selects movie theatr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ustomer selects movi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ustomer pays for movi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ostcondition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ustomer has a ticket ID and/or printed out ticket for a movi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lternative Flow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-Theatre Purchas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alesperson or Manager verifies available tickets for a playing movi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y get payment and processes i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e Case Descri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Check Movie Status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escription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Returns the movie status (tickets left, playing times, etc..)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rimary Actors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Customer, Sales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econdary Actors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Manager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recondition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vie exist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ain Flow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 the number of available seats, movie times, etc.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turn to use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ostconditions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n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lternative Flows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n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se Case Descrip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ame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Reserve Seating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scription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Reserves seat(s) for a given movi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imary Actors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Customers, Sal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condary Actors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anager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econdition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vie exis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cket purchased for movi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in Flow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eck to see if the seat is availabl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serve i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nt a new ticket if this is done in-theatre, otherwise update the e-ticket numbe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ostcondition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hosen seat is no longer available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lternative Flow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vie does NOT allow reserved sea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turn an error message to use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erc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velop a use case diagram for a shipping company such as UPS or FedEx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Requirem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ustomers must be able to arrange for a pickup of a package to be delivere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ustomers must be able to check the status of a package, assuming there is a tracking number for it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ustomers must be able to refuse a packag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livery people must be able to determine the next address to deliver a package to, and get directions for it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livery people must be able to confirm a package has been delivered, and store the signature of the signe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ront staff must be able to accept new packages to be shipped, as well as charge customer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uditors must be able to look at past parcel sending history for a particular location or custome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2T09:19:31Z</dcterms:created>
  <dc:creator>Soha</dc:creator>
  <dc:description/>
  <dc:language>en-US</dc:language>
  <cp:lastModifiedBy>Soha</cp:lastModifiedBy>
  <dcterms:modified xsi:type="dcterms:W3CDTF">2009-04-07T09:27:48Z</dcterms:modified>
  <cp:revision>3</cp:revision>
  <dc:subject/>
  <dc:title>Slide 1</dc:title>
</cp:coreProperties>
</file>